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B11-6AFC-4AA0-AB36-25C2A2EC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8800" y="388980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F68-E1E7-4B53-A65A-D8C32753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4888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E06-2E1B-4798-8A5A-DC4F8470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4736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3592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5880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4736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3592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2AA-682B-4224-BD44-6D7637A3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E4DD-013D-49A7-A4A9-E2B78217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477A-2BDC-4C85-B4E5-17C7A612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D121-A47B-462D-9D0A-2C213177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6B2E-B6CD-4A3F-BD30-3DE7268A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55CF-7F0B-457D-AEE5-539BDB87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620280"/>
            <a:ext cx="1090944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6BF0-FF9C-4C21-BD3C-0A0CDD5A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E994-A634-4B2F-8A7C-51A85998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2B9-844A-4EEB-8B7E-CFD4F922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4888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C521-DDF3-42D6-8624-276DBF22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F83E-A69D-475E-960F-544678B5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8800" y="388980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F3C2-0730-4FA4-8499-686CFEDC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4888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8309-935F-4006-B38B-6C956E73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4736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03592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5880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4736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03592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66EE-4185-46CD-AF56-464B2441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9B933-AF48-408F-BEB5-A109C80D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B984-B716-411C-9AFF-15B3D80E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70F9-36FA-4BAA-AF45-59A3E858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560C-CFFD-47F6-8FD4-D3CDD444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DFDD-3244-40AD-A2E5-1D648EDA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499-5960-4F33-A2D8-42DBEFA2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58800" y="620280"/>
            <a:ext cx="1090944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16E1-08B9-49E5-9DBA-B5E740FC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374B-B906-4D17-9B27-291E105D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4888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B205-F84E-4AB2-BF19-76EA542F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22228-08BA-4183-BDD2-C51B4BEF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58800" y="388980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0A53-EE31-4D60-9178-71ECA827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4888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8869-8E1C-4299-BF66-9BE8A7C2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736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3592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5880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4736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3592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FF237-F197-4DE2-B213-64B50AFC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5C376-EE44-41EF-9363-6F4BCF3C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3B8F-1673-4EBA-BC70-CD353D44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12DA-597C-4CAB-909A-7BDD9753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446-8801-4E57-B843-4624DC03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0348B-4E6B-46E4-A894-7E2CF9BF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6B924-D0FF-4F11-8622-2E4F7AA9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58800" y="620280"/>
            <a:ext cx="1090944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03D98-9583-4945-9C74-B0F65B6A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C6103-F042-4FDB-8D9A-DB208CA3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4888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B6D9-42FC-4DC1-B3B8-178FEE7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998CE-5316-4624-9B94-CFCC2D7E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58800" y="388980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93C1-1F1B-4DC8-9AB5-E406940E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24888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270E3-2534-4A30-A2A5-505DD8CF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34736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35920" y="202392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5880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434736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8035920" y="3889800"/>
            <a:ext cx="351252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17715-F47F-458A-A887-7D03E952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87A-2AF3-40C5-A715-ACCCC5BE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8800" y="620280"/>
            <a:ext cx="1090944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628-B450-48E2-B771-8CCF72B5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838-29AB-4C58-AA04-1C1376E2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48880" y="388980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E38-6C1F-47C4-A9A1-6D4F775E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880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48880" y="2023920"/>
            <a:ext cx="53236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8800" y="3889800"/>
            <a:ext cx="1090944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9CA-69F3-4AA2-8971-E4EA5207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a40bf"/>
                </a:solidFill>
                <a:latin typeface="Navigo"/>
              </a:rPr>
              <a:t>Click to edit the title text format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Click to edit the outline text format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econd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Third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Four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Fif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ix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even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358800" y="58420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40bf"/>
                </a:solidFill>
                <a:latin typeface="IBM Plex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a40bf"/>
                </a:solidFill>
                <a:latin typeface="IBM Plex Sans"/>
              </a:rPr>
              <a:t>20.11.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5520" y="5842080"/>
            <a:ext cx="41036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a40bf"/>
                </a:solidFill>
                <a:latin typeface="IBM Plex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a40bf"/>
                </a:solidFill>
                <a:latin typeface="IBM Plex Sans"/>
              </a:rPr>
              <a:t>STEM-</a:t>
            </a:r>
            <a:r>
              <a:rPr b="0" lang="ru-RU" sz="1200" spc="-1" strike="noStrike">
                <a:solidFill>
                  <a:srgbClr val="6a40bf"/>
                </a:solidFill>
                <a:latin typeface="IBM Plex Sans"/>
              </a:rPr>
              <a:t>карьера и инновационный бизне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об этом нужно знать современному учител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40bf"/>
                </a:solidFill>
                <a:latin typeface="IBM Plex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115A-0413-40C8-8BE5-5F053D99D59E}" type="slidenum">
              <a:rPr b="0" lang="ru-RU" sz="1200" spc="-1" strike="noStrike">
                <a:solidFill>
                  <a:srgbClr val="6a40b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71520" y="368280"/>
            <a:ext cx="11449080" cy="6085080"/>
          </a:xfrm>
          <a:prstGeom prst="rect">
            <a:avLst/>
          </a:prstGeom>
          <a:noFill/>
          <a:ln w="12600">
            <a:solidFill>
              <a:srgbClr val="6a4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658800" y="5842080"/>
            <a:ext cx="1206360" cy="3585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71520" y="368280"/>
            <a:ext cx="11449080" cy="6085080"/>
          </a:xfrm>
          <a:prstGeom prst="rect">
            <a:avLst/>
          </a:prstGeom>
          <a:noFill/>
          <a:ln w="12600">
            <a:solidFill>
              <a:srgbClr val="6a4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3"/>
          <a:stretch/>
        </p:blipFill>
        <p:spPr>
          <a:xfrm>
            <a:off x="658800" y="5842080"/>
            <a:ext cx="1206360" cy="35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3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7469280" y="620640"/>
            <a:ext cx="4351320" cy="5975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371520" y="368280"/>
            <a:ext cx="11449080" cy="6085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0"/>
          <p:cNvSpPr/>
          <p:nvPr/>
        </p:nvSpPr>
        <p:spPr>
          <a:xfrm>
            <a:off x="7226280" y="368280"/>
            <a:ext cx="0" cy="608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3"/>
          <a:stretch/>
        </p:blipFill>
        <p:spPr>
          <a:xfrm>
            <a:off x="658800" y="5842080"/>
            <a:ext cx="1173240" cy="349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a40bf"/>
                </a:solidFill>
                <a:latin typeface="Navigo"/>
              </a:rPr>
              <a:t>Click to edit the title text format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Click to edit the outline text format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econd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Third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Four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Fif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ix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even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358800" y="58420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IBM Plex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BM Plex Sans"/>
              </a:rPr>
              <a:t>20.11.20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58800" y="620640"/>
            <a:ext cx="6324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IBM Plex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IBM Plex Sans"/>
              </a:rPr>
              <a:t>STEM-</a:t>
            </a:r>
            <a:r>
              <a:rPr b="0" lang="ru-RU" sz="1200" spc="-1" strike="noStrike">
                <a:solidFill>
                  <a:srgbClr val="ffffff"/>
                </a:solidFill>
                <a:latin typeface="IBM Plex Sans"/>
              </a:rPr>
              <a:t>карьера и инновационный бизнес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 об этом нужно знать современному учител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5614560" y="5842080"/>
            <a:ext cx="136836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IBM Plex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B991-DACE-4672-83FD-390927A88E8E}" type="slidenum">
              <a:rPr b="0" lang="ru-RU" sz="1200" spc="-1" strike="noStrike">
                <a:solidFill>
                  <a:srgbClr val="fffff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3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371520" y="368280"/>
            <a:ext cx="11449080" cy="6085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2"/>
          <a:stretch/>
        </p:blipFill>
        <p:spPr>
          <a:xfrm>
            <a:off x="658800" y="5842080"/>
            <a:ext cx="1173240" cy="349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4444920" y="3711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4"/>
          <a:stretch/>
        </p:blipFill>
        <p:spPr>
          <a:xfrm>
            <a:off x="4444920" y="4078440"/>
            <a:ext cx="155520" cy="155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"/>
          <p:cNvPicPr/>
          <p:nvPr/>
        </p:nvPicPr>
        <p:blipFill>
          <a:blip r:embed="rId5"/>
          <a:stretch/>
        </p:blipFill>
        <p:spPr>
          <a:xfrm>
            <a:off x="4444920" y="4438800"/>
            <a:ext cx="177840" cy="16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"/>
          <p:cNvPicPr/>
          <p:nvPr/>
        </p:nvPicPr>
        <p:blipFill>
          <a:blip r:embed="rId6"/>
          <a:stretch/>
        </p:blipFill>
        <p:spPr>
          <a:xfrm>
            <a:off x="4444920" y="4813200"/>
            <a:ext cx="150840" cy="152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a40bf"/>
                </a:solidFill>
                <a:latin typeface="Navigo"/>
              </a:rPr>
              <a:t>Click to edit the title text format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Click to edit the outline text format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econd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Third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Four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Fif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ix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even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358800" y="58420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IBM Plex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BM Plex Sans"/>
              </a:rPr>
              <a:t>20.11.20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58800" y="620640"/>
            <a:ext cx="5184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IBM Plex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IBM Plex Sans"/>
              </a:rPr>
              <a:t>STEM-</a:t>
            </a:r>
            <a:r>
              <a:rPr b="0" lang="ru-RU" sz="1200" spc="-1" strike="noStrike">
                <a:solidFill>
                  <a:srgbClr val="ffffff"/>
                </a:solidFill>
                <a:latin typeface="IBM Plex Sans"/>
              </a:rPr>
              <a:t>карьера и инновационный бизнес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 об этом нужно знать современному учител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IBM Plex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6AB1-0A5D-4FF5-A907-E012BFA974A6}" type="slidenum">
              <a:rPr b="0" lang="ru-RU" sz="1200" spc="-1" strike="noStrike">
                <a:solidFill>
                  <a:srgbClr val="fffff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371520" y="368280"/>
            <a:ext cx="11449080" cy="6085080"/>
          </a:xfrm>
          <a:prstGeom prst="rect">
            <a:avLst/>
          </a:prstGeom>
          <a:noFill/>
          <a:ln w="12600">
            <a:solidFill>
              <a:srgbClr val="6a4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658800" y="5842080"/>
            <a:ext cx="1206360" cy="358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371520" y="368280"/>
            <a:ext cx="11449080" cy="6085080"/>
          </a:xfrm>
          <a:prstGeom prst="rect">
            <a:avLst/>
          </a:prstGeom>
          <a:noFill/>
          <a:ln w="12600">
            <a:solidFill>
              <a:srgbClr val="6a4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3"/>
          <a:stretch/>
        </p:blipFill>
        <p:spPr>
          <a:xfrm>
            <a:off x="658800" y="5842080"/>
            <a:ext cx="1206360" cy="35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7469280" y="620640"/>
            <a:ext cx="4351320" cy="5975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0"/>
          <p:cNvSpPr/>
          <p:nvPr/>
        </p:nvSpPr>
        <p:spPr>
          <a:xfrm>
            <a:off x="371520" y="368280"/>
            <a:ext cx="11449080" cy="6085080"/>
          </a:xfrm>
          <a:prstGeom prst="rect">
            <a:avLst/>
          </a:prstGeom>
          <a:noFill/>
          <a:ln w="12600">
            <a:solidFill>
              <a:srgbClr val="6a4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7226280" y="368280"/>
            <a:ext cx="0" cy="6085080"/>
          </a:xfrm>
          <a:prstGeom prst="line">
            <a:avLst/>
          </a:prstGeom>
          <a:ln w="12600">
            <a:solidFill>
              <a:srgbClr val="6a4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a40bf"/>
                </a:solidFill>
                <a:latin typeface="Navigo"/>
              </a:rPr>
              <a:t>Click to edit the title text format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58800" y="2023920"/>
            <a:ext cx="1090944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Click to edit the outline text format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econd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Third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Four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Fif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ix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235d"/>
                </a:solidFill>
                <a:latin typeface="IBM Plex Sans"/>
              </a:rPr>
              <a:t>Seventh Outline Level</a:t>
            </a: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3358800" y="58420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6235d"/>
                </a:solidFill>
                <a:latin typeface="IBM Plex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6235d"/>
                </a:solidFill>
                <a:latin typeface="IBM Plex Sans"/>
              </a:rPr>
              <a:t>20.11.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658800" y="620640"/>
            <a:ext cx="6324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6235d"/>
                </a:solidFill>
                <a:latin typeface="IBM Plex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6235d"/>
                </a:solidFill>
                <a:latin typeface="IBM Plex Sans"/>
              </a:rPr>
              <a:t>STEM-</a:t>
            </a:r>
            <a:r>
              <a:rPr b="0" lang="ru-RU" sz="1200" spc="-1" strike="noStrike">
                <a:solidFill>
                  <a:srgbClr val="36235d"/>
                </a:solidFill>
                <a:latin typeface="IBM Plex Sans"/>
              </a:rPr>
              <a:t>карьера и инновационный бизне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об этом нужно знать современному учител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5614560" y="5842080"/>
            <a:ext cx="136836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6235d"/>
                </a:solidFill>
                <a:latin typeface="IBM Plex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BD8B-F7F1-4250-9152-7E20F68EBCD0}" type="slidenum">
              <a:rPr b="0" lang="ru-RU" sz="1200" spc="-1" strike="noStrike">
                <a:solidFill>
                  <a:srgbClr val="36235d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117.ucoz.ru/index/mezhdisciplinarnyj_proekt_quot_poznajom_nanomir_quot/0-186" TargetMode="External"/><Relationship Id="rId2" Type="http://schemas.openxmlformats.org/officeDocument/2006/relationships/hyperlink" Target="https://poznaemnanomir.blogspot.com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g117.ucoz.ru/index/mezhdisciplinarnyj_proekt_quot_poznajom_nanomir_quot/0-186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oznaemnanomir.blogspot.com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81040" y="1334880"/>
            <a:ext cx="6324480" cy="29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Navigo"/>
              </a:rPr>
              <a:t>Дополнительная образовательная программа по изучению нанотехнологий «Нанотехнологии для младших школьников»</a:t>
            </a:r>
            <a:endParaRPr b="1" lang="en-US" sz="36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81040" y="4843440"/>
            <a:ext cx="4068720" cy="2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БОЗАДЖИЕВ  ВАДИМ  ЮРЬЕВИЧ</a:t>
            </a:r>
            <a:endParaRPr b="0" lang="en-US" sz="18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80680" y="5268960"/>
            <a:ext cx="44607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Myriad Pro"/>
              </a:rPr>
              <a:t>Учитель биологии МБОУ «Гимназия № 117»</a:t>
            </a:r>
            <a:endParaRPr b="0" lang="en-US" sz="16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88" name="Date Placeholder 4"/>
          <p:cNvSpPr/>
          <p:nvPr/>
        </p:nvSpPr>
        <p:spPr>
          <a:xfrm>
            <a:off x="6289560" y="5921280"/>
            <a:ext cx="136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Myriad Pro"/>
              </a:rPr>
              <a:t>17.11.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Описание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58800" y="2023560"/>
            <a:ext cx="10909440" cy="28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Программа обеспечивается авторскими интернет-ресурсами: 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 страницей проекта «Познаём НАНОМИР» на сайте МБОУ «Гимназия № 117» (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IBM Plex Sans"/>
                <a:hlinkClick r:id="rId1"/>
              </a:rPr>
              <a:t>http://g117.ucoz.ru/index/mezhdisciplinarnyj_proekt_quot_poznajom_nanomir_quot/0-186</a:t>
            </a: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);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  блогом (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IBM Plex Sans"/>
                <a:hlinkClick r:id="rId2"/>
              </a:rPr>
              <a:t>https://poznaemnanomir.blogspot.com/</a:t>
            </a: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),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 и авторским дидактическим пособием «Нанотехнологии для младших школьников» 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4137-26A6-4723-8963-652AF8C9B43D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Описание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58800" y="2023560"/>
            <a:ext cx="1090944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35d"/>
                </a:solidFill>
                <a:latin typeface="IBM Plex Sans"/>
              </a:rPr>
              <a:t>Формы занятий внеурочной деятельности</a:t>
            </a: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: экскурсии, беседы, коллективные и индивидуальные исследования, самостоятельная работа, доклады,  выступления, выставки, участие в конкурсах и т.д.  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Данные формы работы дают детям возможность максимально проявлять учащимся свою активность, изобретательность, творческий и интеллектуальный потенциал и развивают их эмоциональное восприятие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DF5A-59DA-45C8-B3EE-07BBB503F7E5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Описание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58800" y="2023920"/>
            <a:ext cx="1090944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35d"/>
                </a:solidFill>
                <a:latin typeface="IBM Plex Sans"/>
              </a:rPr>
              <a:t>Место данного курса в учебном плане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Занятия по программе проводятся во внеурочное время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Программа ориентирована на обучающихся 2-4 классов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Программа реализуется как в одновозрастных, так и разновозрастных группах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Весь образовательный курс по данной программе разделен на два года обучения, что позволяет проводить процесс обучения от простого к сложному и постепенно переходить к исследовательской части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I год обучения – 35 часов (по 1 часу 1 раз в неделю);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II год обучения – 35 часов (по 1 часу 1 раз в неделю)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DD04-1FEA-417D-94B0-E03C62004D27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8800" y="2583720"/>
            <a:ext cx="6324480" cy="14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a40bf"/>
                </a:solidFill>
                <a:latin typeface="Myriad Pro"/>
              </a:rPr>
              <a:t>Ресурсы практики</a:t>
            </a:r>
            <a:endParaRPr b="1" lang="en-US" sz="54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58800" y="1525680"/>
            <a:ext cx="40687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6235d"/>
              </a:solidFill>
              <a:latin typeface="IBM Plex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Ресурсы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8800" y="2023920"/>
            <a:ext cx="109094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6235d"/>
                </a:solidFill>
                <a:uFillTx/>
                <a:latin typeface="IBM Plex Sans"/>
              </a:rPr>
              <a:t>Кадровое обеспечение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Программа реализуется учителями начальных классов. 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При реализации данной программы могут быть использованы ресурсы сторонних организаций, в том числе имеющих оборудование для демонстрации и проведения опытов, лекционных занятий, экскурсий, а также приглашаться на занятия учителя других предметов. 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CCFD-8D46-47EE-9372-9086141A419F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344520"/>
            <a:ext cx="109094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Кадровые ресурсы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58800" y="1131840"/>
            <a:ext cx="10909440" cy="26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В 2020-2021 и 2021-2022 учебных годах  в МБОУ «Гимназия № 117» в рамках внеурочной деятельности в начальной школе проводилось два курса по нанотехнологиям, разработанных и рекомендованных Школьной лигой РОСНАНО: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 курс «Загадки природы» (1 «ж» 25 человек (Федюшина А.В.), 2 «б» 27 человек (Пуцарь М.В.)) 2020-2021 уч.год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 курс «Загадки природы» (2 «ж» 25 человек (Федюшина А.В.), 3 «б» 27 человек (Пуцарь М.В.)) 2021-2022 уч.год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8E46-0135-4C91-93F2-CFEE89C58BB4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8800" y="344520"/>
            <a:ext cx="109094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Ресурсы технологи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58800" y="1072800"/>
            <a:ext cx="109094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6235d"/>
                </a:solidFill>
                <a:uFillTx/>
                <a:latin typeface="IBM Plex Sans"/>
              </a:rPr>
              <a:t>Материально-техническое обеспечение:</a:t>
            </a:r>
            <a:endParaRPr b="0" lang="en-US" sz="14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235d"/>
                </a:solidFill>
                <a:latin typeface="IBM Plex Sans"/>
              </a:rPr>
              <a:t>- авторская образовательная программа «Нанотехнологии для младших школьников»;</a:t>
            </a:r>
            <a:endParaRPr b="0" lang="en-US" sz="14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235d"/>
                </a:solidFill>
                <a:latin typeface="IBM Plex Sans"/>
              </a:rPr>
              <a:t>- ресурсы образовательных потралов Стемфорд, Е-Нано. </a:t>
            </a:r>
            <a:endParaRPr b="0" lang="en-US" sz="14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235d"/>
                </a:solidFill>
                <a:latin typeface="IBM Plex Sans"/>
              </a:rPr>
              <a:t>- интернет-сообщество НАНОМЕТР;</a:t>
            </a:r>
            <a:endParaRPr b="0" lang="en-US" sz="14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235d"/>
                </a:solidFill>
                <a:latin typeface="IBM Plex Sans"/>
              </a:rPr>
              <a:t>- иллюстрации, макеты, коллекции, альбомы;</a:t>
            </a:r>
            <a:endParaRPr b="0" lang="en-US" sz="14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235d"/>
                </a:solidFill>
                <a:latin typeface="IBM Plex Sans"/>
              </a:rPr>
              <a:t>- познавательный материал, дидактические игры, упражнения, пособия по нанотехнологиям;</a:t>
            </a:r>
            <a:endParaRPr b="0" lang="en-US" sz="14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235d"/>
                </a:solidFill>
                <a:latin typeface="IBM Plex Sans"/>
              </a:rPr>
              <a:t>- сегмент геоинформационной системы, разработанной министерством информационных технологий и связи Ростовской области и являющаяся штатным программным обеспечением «Школьного центра космических услуг» (с декабря 2016 г. МБОУ «Гимназия № 117» входит в российскую сеть «Школьных центров космических услуг», созданной НПО «РЕКОД» при поддержке госкорпорации Роскосмос);</a:t>
            </a:r>
            <a:endParaRPr b="0" lang="en-US" sz="14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235d"/>
                </a:solidFill>
                <a:latin typeface="IBM Plex Sans"/>
              </a:rPr>
              <a:t>- интернет ресурсы сторонних организаций;</a:t>
            </a:r>
            <a:endParaRPr b="0" lang="en-US" sz="14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235d"/>
                </a:solidFill>
                <a:latin typeface="IBM Plex Sans"/>
              </a:rPr>
              <a:t>- техническая возможность участия гимназистов в международных, всероссийских, областных и городских дистанционных конференциях, олимпиадах и конкурсах.</a:t>
            </a:r>
            <a:endParaRPr b="0" lang="en-US" sz="1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31D5-FA13-4DC4-8303-F6B849CBB389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Navigo"/>
              </a:rPr>
              <a:t>Кадровые ресурсы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58800" y="2023920"/>
            <a:ext cx="518472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В 2020-2021 учебном году в МБОУ «Гимназия № 117» приняла участие в ежегодной Неделе высоких технологий и технопредпринимательства, организованной Школьной лигой РОСНАНО. В мероприятиях НВТиТП приняло участие 89 обучающихся гимназии 2-4 классов. Было проведено 5 различных мероприятий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2160-63E0-4288-A635-056988D2577A}" type="slidenum">
              <a:rPr b="0" lang="ru-RU" sz="1200" spc="-1" strike="noStrike">
                <a:solidFill>
                  <a:srgbClr val="6a40b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D:\2021-2022 УЧЕБНЫЙ ГОД\НЭР\ШКОЛЬНАЯ ЛИГА РОСНАНО\КОНФЕРЕНЦИЯ СТЕМФОРД-СТЕАМ-17112021\БОЗАДЖИЕВ-МАЛЫШИ\лого.JPG"/>
          <p:cNvPicPr/>
          <p:nvPr/>
        </p:nvPicPr>
        <p:blipFill>
          <a:blip r:embed="rId1"/>
          <a:stretch/>
        </p:blipFill>
        <p:spPr>
          <a:xfrm>
            <a:off x="7180200" y="2023920"/>
            <a:ext cx="330372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Navigo"/>
              </a:rPr>
              <a:t>Кадровые ресурсы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8800" y="2023920"/>
            <a:ext cx="518472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В 2020-2021 учебном году в МБОУ «Гимназия № 117» приняла участие в ежегодном Фестивале </a:t>
            </a:r>
            <a:r>
              <a:rPr b="0" lang="en-US" sz="2000" spc="-1" strike="noStrike">
                <a:solidFill>
                  <a:srgbClr val="36235d"/>
                </a:solidFill>
                <a:latin typeface="IBM Plex Sans"/>
              </a:rPr>
              <a:t>STA</a:t>
            </a: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студий, организованной Школьной лигой РОСНАНО. В мероприятиях Фестиваля приняло участие 47 обучающихся гимназии 2-4 классов. Было проведено 2 мероприятия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39" name="Номер слайда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3CE7-4CF6-4908-BA7C-1839E17BC959}" type="slidenum">
              <a:rPr b="0" lang="ru-RU" sz="1200" spc="-1" strike="noStrike">
                <a:solidFill>
                  <a:srgbClr val="6a40b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Apple Service\Desktop\04-05092021\СТЕМФОРД-ВЫСТУПЛЕНИЯ\РУДЬ-КОЛЛЕКТИВНАЯ\стем.jpg"/>
          <p:cNvPicPr/>
          <p:nvPr/>
        </p:nvPicPr>
        <p:blipFill>
          <a:blip r:embed="rId1"/>
          <a:stretch/>
        </p:blipFill>
        <p:spPr>
          <a:xfrm>
            <a:off x="6446880" y="2023920"/>
            <a:ext cx="477036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Navigo"/>
              </a:rPr>
              <a:t>Кадровые ресурсы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58800" y="2023920"/>
            <a:ext cx="518472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Успешному проведению Недели высоких технологий и технопредпринимательста и Фестиваля </a:t>
            </a:r>
            <a:r>
              <a:rPr b="0" lang="en-US" sz="2000" spc="-1" strike="noStrike">
                <a:solidFill>
                  <a:srgbClr val="36235d"/>
                </a:solidFill>
                <a:latin typeface="IBM Plex Sans"/>
              </a:rPr>
              <a:t>STA</a:t>
            </a: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студий в МБОУ «Гимназия № 117» способствовало прохождению специальных методических курсов для педагогов на платформе НАНОГРАД.РУ Школьной лиги РОСНАНО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43" name="Номер слайда 6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43B1-4EDB-4AD9-AD10-BE20CA033C00}" type="slidenum">
              <a:rPr b="0" lang="ru-RU" sz="1200" spc="-1" strike="noStrike">
                <a:solidFill>
                  <a:srgbClr val="6a40b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C:\Users\Apple Service\Desktop\04-05092021\СТЕМФОРД-ВЫСТУПЛЕНИЯ\РУДЬ-КОЛЛЕКТИВНАЯ\сертиф-ста.jpg"/>
          <p:cNvPicPr/>
          <p:nvPr/>
        </p:nvPicPr>
        <p:blipFill>
          <a:blip r:embed="rId1"/>
          <a:stretch/>
        </p:blipFill>
        <p:spPr>
          <a:xfrm>
            <a:off x="7550280" y="2023920"/>
            <a:ext cx="256356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Общая характеристика образовательного учреждения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58800" y="2023920"/>
            <a:ext cx="518472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235d"/>
                </a:solidFill>
                <a:latin typeface="IBM Plex Sans"/>
              </a:rPr>
              <a:t>контингент обучающихся – 7 – 17 лет;</a:t>
            </a:r>
            <a:endParaRPr b="0" lang="en-US" sz="17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235d"/>
                </a:solidFill>
                <a:latin typeface="IBM Plex Sans"/>
              </a:rPr>
              <a:t>численность – 1500 обучающихся</a:t>
            </a:r>
            <a:endParaRPr b="0" lang="en-US" sz="17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235d"/>
                </a:solidFill>
                <a:latin typeface="IBM Plex Sans"/>
              </a:rPr>
              <a:t>материально-технические условия – обычное для школы</a:t>
            </a:r>
            <a:endParaRPr b="0" lang="en-US" sz="17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235d"/>
                </a:solidFill>
                <a:latin typeface="IBM Plex Sans"/>
              </a:rPr>
              <a:t>географическое расположения – город Ростов-на-Дону, Южный федеральный округ</a:t>
            </a:r>
            <a:endParaRPr b="0" lang="en-US" sz="17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235d"/>
                </a:solidFill>
                <a:latin typeface="IBM Plex Sans"/>
              </a:rPr>
              <a:t>МБОУ «Гимназия № 117» является школой-участницей Школьной лиги РОСНАНО и Федеральной инновационной площадкой Школьной лиги РОСНАНО.</a:t>
            </a:r>
            <a:endParaRPr b="0" lang="en-US" sz="17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7BA7-B1FB-4CEB-BB21-86ECE4DF2314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C:\Users\Apple Service\Desktop\04-05092021\СТЕМФОРД-ВЫСТУПЛЕНИЯ\РУДЬ-КОЛЛЕКТИВНАЯ\117.jpg"/>
          <p:cNvPicPr/>
          <p:nvPr/>
        </p:nvPicPr>
        <p:blipFill>
          <a:blip r:embed="rId2"/>
          <a:stretch/>
        </p:blipFill>
        <p:spPr>
          <a:xfrm>
            <a:off x="6326280" y="2665440"/>
            <a:ext cx="5010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58800" y="2023920"/>
            <a:ext cx="518472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Учителя начальных классов гимназии приняли участие в ряде вебинаров и онлайн-семинаров на платформе Школьной лиге РОСНАНО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5520" y="2023920"/>
            <a:ext cx="547236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48" name="Номер слайда 6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9A2D-0839-4EF5-A2F9-D1F20C98ADD7}" type="slidenum">
              <a:rPr b="0" lang="ru-RU" sz="1200" spc="-1" strike="noStrike">
                <a:solidFill>
                  <a:srgbClr val="6a40b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22062021-НАНО-семинар"/>
          <p:cNvPicPr/>
          <p:nvPr/>
        </p:nvPicPr>
        <p:blipFill>
          <a:blip r:embed="rId1"/>
          <a:stretch/>
        </p:blipFill>
        <p:spPr>
          <a:xfrm>
            <a:off x="6095880" y="2023920"/>
            <a:ext cx="2924280" cy="1695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вебинар-еНано-Патентное расследование-25022021-2"/>
          <p:cNvPicPr/>
          <p:nvPr/>
        </p:nvPicPr>
        <p:blipFill>
          <a:blip r:embed="rId2"/>
          <a:stretch/>
        </p:blipFill>
        <p:spPr>
          <a:xfrm>
            <a:off x="8663040" y="3956040"/>
            <a:ext cx="2905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Navigo"/>
              </a:rPr>
              <a:t>Авторские ресурсы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58800" y="2023920"/>
            <a:ext cx="518472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6235d"/>
                </a:solidFill>
                <a:latin typeface="IBM Plex Sans"/>
              </a:rPr>
              <a:t>Программа обеспечивается авторскими интернет-ресурсами: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6235d"/>
                </a:solidFill>
                <a:latin typeface="IBM Plex Sans"/>
              </a:rPr>
              <a:t>- страницей проекта «Познаём НАНОМИР» на сайте МБОУ «Гимназия № 117» (</a:t>
            </a:r>
            <a:r>
              <a:rPr b="0" lang="ru-RU" sz="1200" spc="-1" strike="noStrike" u="sng">
                <a:solidFill>
                  <a:srgbClr val="0563c1"/>
                </a:solidFill>
                <a:uFillTx/>
                <a:latin typeface="IBM Plex Sans"/>
                <a:hlinkClick r:id="rId1"/>
              </a:rPr>
              <a:t>http://g117.ucoz.ru/index/mezhdisciplinarnyj_proekt_quot_poznajom_nanomir_quot/0-186</a:t>
            </a:r>
            <a:r>
              <a:rPr b="0" lang="ru-RU" sz="1200" spc="-1" strike="noStrike">
                <a:solidFill>
                  <a:srgbClr val="36235d"/>
                </a:solidFill>
                <a:latin typeface="IBM Plex Sans"/>
              </a:rPr>
              <a:t>). Структурно состоит из трех интнрнет-страниц: «Междисциплинарный проект «Познаем НАНОМИР», «Библиотека «НАНОМИР»» и «Что такое НАНОМИР». В библиотеке собраны электронные версии больного количества книг по нанотехнологиям, в основном относящихся к жанру детской образовательной литературы. Основная миссия данной библиотеки – просветительская, познакомить детей с наномиром и нанотехнологиями посредством приобщения их к чтению специальной литературы, а также их образование и развитие.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CBBA-CA9A-4F67-9CD0-337D4B66D84F}" type="slidenum">
              <a:rPr b="0" lang="ru-RU" sz="1200" spc="-1" strike="noStrike">
                <a:solidFill>
                  <a:srgbClr val="6a40b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C:\Users\Apple Service\Desktop\04-05092021\СТЕМФОРД-ВЫСТУПЛЕНИЯ\РУДЬ-КОЛЛЕКТИВНАЯ\сайт.jpg"/>
          <p:cNvPicPr/>
          <p:nvPr/>
        </p:nvPicPr>
        <p:blipFill>
          <a:blip r:embed="rId2"/>
          <a:stretch/>
        </p:blipFill>
        <p:spPr>
          <a:xfrm>
            <a:off x="6095880" y="2271600"/>
            <a:ext cx="5472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Navigo"/>
              </a:rPr>
              <a:t>Авторские ресурсы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58800" y="2023920"/>
            <a:ext cx="518472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6235d"/>
                </a:solidFill>
                <a:latin typeface="IBM Plex Sans"/>
              </a:rPr>
              <a:t>- блогом (</a:t>
            </a:r>
            <a:r>
              <a:rPr b="0" lang="ru-RU" sz="1200" spc="-1" strike="noStrike" u="sng">
                <a:solidFill>
                  <a:srgbClr val="0563c1"/>
                </a:solidFill>
                <a:uFillTx/>
                <a:latin typeface="IBM Plex Sans"/>
                <a:hlinkClick r:id="rId1"/>
              </a:rPr>
              <a:t>https://poznaemnanomir.blogspot.com/</a:t>
            </a:r>
            <a:r>
              <a:rPr b="0" lang="ru-RU" sz="1200" spc="-1" strike="noStrike">
                <a:solidFill>
                  <a:srgbClr val="36235d"/>
                </a:solidFill>
                <a:latin typeface="IBM Plex Sans"/>
              </a:rPr>
              <a:t>). Блог представляет собой расширенную версию раздела проекта «Познаем НАНОМИР» на страницах сайта МБОУ «Гимназия № 117». В нем размещается текущая актуальная информация, научно-популярные статьи, информация о ВУЗах, где проводится обучение по специальностям в области нанотехнологий. Также в блоге отражается текущая образовательная деятельность педагогов гимназии по реализации данного проекта. В блоге также размещена библиотека электронной литературы «Познаем НАНОМИР».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57" name="Номер слайда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92AB-EA0F-4537-95B9-2F0991D3A69D}" type="slidenum">
              <a:rPr b="0" lang="ru-RU" sz="1200" spc="-1" strike="noStrike">
                <a:solidFill>
                  <a:srgbClr val="6a40b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C:\Users\Apple Service\Desktop\04-05092021\СТЕМФОРД-ВЫСТУПЛЕНИЯ\РУДЬ-КОЛЛЕКТИВНАЯ\блог.jpg"/>
          <p:cNvPicPr/>
          <p:nvPr/>
        </p:nvPicPr>
        <p:blipFill>
          <a:blip r:embed="rId2"/>
          <a:stretch/>
        </p:blipFill>
        <p:spPr>
          <a:xfrm>
            <a:off x="6451560" y="2023920"/>
            <a:ext cx="47610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Navigo"/>
              </a:rPr>
              <a:t>Авторские ресурсы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8800" y="1577520"/>
            <a:ext cx="518472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6235d"/>
                </a:solidFill>
                <a:latin typeface="IBM Plex Sans"/>
              </a:rPr>
              <a:t>- авторское дидактическое пособие «Нанотехнологии для младших школьникова»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6235d"/>
                </a:solidFill>
                <a:latin typeface="IBM Plex Sans"/>
              </a:rPr>
              <a:t>Содержание пособия: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6235d"/>
                </a:solidFill>
                <a:latin typeface="IBM Plex Sans"/>
              </a:rPr>
              <a:t>Тайна древнего кубка. Вместо предисловия</a:t>
            </a:r>
            <a:r>
              <a:rPr b="0" lang="ru-RU" sz="1200" spc="-1" strike="noStrike">
                <a:solidFill>
                  <a:srgbClr val="36235d"/>
                </a:solidFill>
                <a:latin typeface="IBM Plex Sans"/>
              </a:rPr>
              <a:t>.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6235d"/>
                </a:solidFill>
                <a:latin typeface="IBM Plex Sans"/>
              </a:rPr>
              <a:t>Что такое «Нано». 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6235d"/>
                </a:solidFill>
                <a:latin typeface="IBM Plex Sans"/>
              </a:rPr>
              <a:t>Как научились измерять наноразмерные объекты.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6235d"/>
                </a:solidFill>
                <a:latin typeface="IBM Plex Sans"/>
              </a:rPr>
              <a:t>Как устроена молекула и атом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6235d"/>
                </a:solidFill>
                <a:latin typeface="IBM Plex Sans"/>
              </a:rPr>
              <a:t>История изучения микромира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6235d"/>
                </a:solidFill>
                <a:latin typeface="IBM Plex Sans"/>
              </a:rPr>
              <a:t>Основоположники нанотехнологий: Ричард Фейнман, Эрик Дрекслер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6235d"/>
                </a:solidFill>
                <a:latin typeface="IBM Plex Sans"/>
              </a:rPr>
              <a:t>Инструменты нанотехнологов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6235d"/>
                </a:solidFill>
                <a:latin typeface="IBM Plex Sans"/>
              </a:rPr>
              <a:t>Наноустройства</a:t>
            </a:r>
            <a:endParaRPr b="0" lang="en-US" sz="12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61C0-DBCC-4BDD-B888-46ABE8525945}" type="slidenum">
              <a:rPr b="0" lang="ru-RU" sz="1200" spc="-1" strike="noStrike">
                <a:solidFill>
                  <a:srgbClr val="6a40b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Users\Apple Service\Desktop\04-05092021\СТЕМФОРД-ВЫСТУПЛЕНИЯ\БОЗАДЖИЕВ-МАЛЫШИ\пособие-тит.JPG"/>
          <p:cNvPicPr/>
          <p:nvPr/>
        </p:nvPicPr>
        <p:blipFill>
          <a:blip r:embed="rId1"/>
          <a:stretch/>
        </p:blipFill>
        <p:spPr>
          <a:xfrm>
            <a:off x="7575480" y="2023920"/>
            <a:ext cx="251316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Navigo"/>
              </a:rPr>
              <a:t>Ресурсы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58800" y="2023920"/>
            <a:ext cx="10909440" cy="25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235d"/>
                </a:solidFill>
                <a:latin typeface="IBM Plex Sans"/>
              </a:rPr>
              <a:t>- </a:t>
            </a:r>
            <a:r>
              <a:rPr b="1" lang="ru-RU" sz="1600" spc="-1" strike="noStrike" u="sng">
                <a:solidFill>
                  <a:srgbClr val="36235d"/>
                </a:solidFill>
                <a:uFillTx/>
                <a:latin typeface="IBM Plex Sans"/>
              </a:rPr>
              <a:t>Социальное партнерство, как ресурс реализации программы:</a:t>
            </a:r>
            <a:endParaRPr b="0" lang="en-US" sz="16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235d"/>
                </a:solidFill>
                <a:latin typeface="IBM Plex Sans"/>
              </a:rPr>
              <a:t>- совместная работа с Донским государственным техническим университетом;</a:t>
            </a:r>
            <a:endParaRPr b="0" lang="en-US" sz="16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235d"/>
                </a:solidFill>
                <a:latin typeface="IBM Plex Sans"/>
              </a:rPr>
              <a:t>- совместная работа с Южным федеральным университетом;</a:t>
            </a:r>
            <a:endParaRPr b="0" lang="en-US" sz="16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235d"/>
                </a:solidFill>
                <a:latin typeface="IBM Plex Sans"/>
              </a:rPr>
              <a:t>- совместная работа с высокотехнологичными предприятиями;</a:t>
            </a:r>
            <a:endParaRPr b="0" lang="en-US" sz="16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235d"/>
                </a:solidFill>
                <a:latin typeface="IBM Plex Sans"/>
              </a:rPr>
              <a:t>- совместная работа с Научным обществом гимназистов «Эврика»;</a:t>
            </a:r>
            <a:endParaRPr b="0" lang="en-US" sz="16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235d"/>
                </a:solidFill>
                <a:latin typeface="IBM Plex Sans"/>
              </a:rPr>
              <a:t>- совместная работа с другими педагогами. На настоящее время к участию в программе привлечено ряд педагогов МБОУ «Гимназия № 117».</a:t>
            </a:r>
            <a:endParaRPr b="0" lang="en-US" sz="16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DDE7-8E03-4DF9-B39E-60977D7E0E04}" type="slidenum">
              <a:rPr b="0" lang="ru-RU" sz="1200" spc="-1" strike="noStrike">
                <a:solidFill>
                  <a:srgbClr val="6a40b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8800" y="344520"/>
            <a:ext cx="109094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Диагностика результативности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58800" y="1110960"/>
            <a:ext cx="10909440" cy="16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Основная диагностика по завершении каждого года обучения проходив в форме участия в мероприятиях ежегодной Недели высоких технологий и технопредпринимательства, ежегодно организуемой Школьной лигой РОСНАНО, участием в мероприятиях и конкурсах проекта «Школа на ладони» Школьной лиги РОСНАНО и в гимназической конференции учащихся «Виват, наука !»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9CE0-47BD-4343-8511-4D01CA14908F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8800" y="3317760"/>
            <a:ext cx="632448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a40bf"/>
                </a:solidFill>
                <a:latin typeface="Myriad Pro"/>
              </a:rPr>
              <a:t>Результативность практики</a:t>
            </a:r>
            <a:endParaRPr b="1" lang="en-US" sz="54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58800" y="1525680"/>
            <a:ext cx="40687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6235d"/>
              </a:solidFill>
              <a:latin typeface="IBM Plex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Результативность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58800" y="2023920"/>
            <a:ext cx="518472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Учащиеся принимают участие в конкурсах проекта «Школа на ладони» Школьной лиги РОСНАНО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5520" y="2023920"/>
            <a:ext cx="547236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EDBB-B1AA-43BF-B4E6-2706F20180F1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9" descr=""/>
          <p:cNvPicPr/>
          <p:nvPr/>
        </p:nvPicPr>
        <p:blipFill>
          <a:blip r:embed="rId1"/>
          <a:stretch/>
        </p:blipFill>
        <p:spPr>
          <a:xfrm>
            <a:off x="6095880" y="2023920"/>
            <a:ext cx="1609920" cy="214344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0" descr=""/>
          <p:cNvPicPr/>
          <p:nvPr/>
        </p:nvPicPr>
        <p:blipFill>
          <a:blip r:embed="rId2"/>
          <a:stretch/>
        </p:blipFill>
        <p:spPr>
          <a:xfrm>
            <a:off x="8331120" y="2023920"/>
            <a:ext cx="15242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8800" y="3317760"/>
            <a:ext cx="632448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a40bf"/>
                </a:solidFill>
                <a:latin typeface="Myriad Pro"/>
              </a:rPr>
              <a:t>Апробация практики</a:t>
            </a:r>
            <a:endParaRPr b="1" lang="en-US" sz="54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58800" y="2638440"/>
            <a:ext cx="4068720" cy="2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235d"/>
                </a:solidFill>
                <a:latin typeface="Myriad Pro"/>
              </a:rPr>
              <a:t>ЗАГОЛОВОК РАЗДЕЛА</a:t>
            </a:r>
            <a:endParaRPr b="0" lang="en-US" sz="1800" spc="-1" strike="noStrike">
              <a:solidFill>
                <a:srgbClr val="36235d"/>
              </a:solidFill>
              <a:latin typeface="IBM Plex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Navigo"/>
              </a:rPr>
              <a:t>Масштабируемость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8800" y="2023920"/>
            <a:ext cx="518472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В программе принимают участие начальные классы МБОУ «Гимназия № 117». В реализацию программы включены учителя начальных, родители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Программа «Познаем НАНОМИР» реализуется в МБОУ «Гимназия № 117» с 2020 года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81" name="Дата 4"/>
          <p:cNvSpPr/>
          <p:nvPr/>
        </p:nvSpPr>
        <p:spPr>
          <a:xfrm>
            <a:off x="3359160" y="5842080"/>
            <a:ext cx="13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a40bf"/>
                </a:solidFill>
                <a:latin typeface="IBM Plex Sans"/>
              </a:rPr>
              <a:t>20.11.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6095880" y="5842080"/>
            <a:ext cx="410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a40bf"/>
                </a:solidFill>
                <a:latin typeface="IBM Plex Sans"/>
              </a:rPr>
              <a:t>STEM-</a:t>
            </a:r>
            <a:r>
              <a:rPr b="0" lang="ru-RU" sz="1200" spc="-1" strike="noStrike">
                <a:solidFill>
                  <a:srgbClr val="6a40bf"/>
                </a:solidFill>
                <a:latin typeface="IBM Plex Sans"/>
              </a:rPr>
              <a:t>карьера и инновационный бизне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об этом нужно знать современному учи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6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735F-00C9-438D-A1D0-739D8371CE4B}" type="slidenum">
              <a:rPr b="0" lang="ru-RU" sz="1200" spc="-1" strike="noStrike">
                <a:solidFill>
                  <a:srgbClr val="6a40bf"/>
                </a:solidFill>
                <a:latin typeface="IBM Plex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:\Users\Apple Service\Desktop\04-05092021\СТЕМФОРД-ВЫСТУПЛЕНИЯ\РУДЬ-КОЛЛЕКТИВНАЯ\проект.jpg"/>
          <p:cNvPicPr/>
          <p:nvPr/>
        </p:nvPicPr>
        <p:blipFill>
          <a:blip r:embed="rId1"/>
          <a:stretch/>
        </p:blipFill>
        <p:spPr>
          <a:xfrm>
            <a:off x="6095880" y="2270160"/>
            <a:ext cx="5472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Общая характеристика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58800" y="2023920"/>
            <a:ext cx="1090944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контингент обучающихся – 7 – 10 лет;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численность – 110 обучающихся из 727 обучающихся 1-4 классов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материально-технические условия – обычное для школы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географическое расположения – город Ростов-на-Дону, Южный федеральный округ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МБОУ «Гимназия № 117» является школой-участницей Школьной лиги РОСНАНО и Федеральной инновационной площадкой Школьной лиги РОСНАНО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FF81-BF8B-429A-83B5-0AD25A1107B2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58720" y="2025360"/>
            <a:ext cx="518472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Navigo"/>
              </a:rPr>
              <a:t>СПАСИБО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Navigo"/>
              </a:rPr>
              <a:t>ЗА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Navigo"/>
              </a:rPr>
              <a:t>ВНИМАНИЕ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58440" y="4142880"/>
            <a:ext cx="17953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BM Plex Sans"/>
              </a:rPr>
              <a:t>ВАДИМ ЮРЬЕВИЧ   БОЗАДЖИЕВ</a:t>
            </a:r>
            <a:endParaRPr b="0" lang="en-US" sz="18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58800" y="5035680"/>
            <a:ext cx="26748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IBM Plex Sans"/>
              </a:rPr>
              <a:t>Координатор проекта «Школьная лига РОСНАНО» в МБОУ «Гимназия № 117»</a:t>
            </a:r>
            <a:endParaRPr b="0" lang="en-US" sz="16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45160" y="4766760"/>
            <a:ext cx="220176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BM Plex Sans"/>
              </a:rPr>
              <a:t>+7 </a:t>
            </a:r>
            <a:r>
              <a:rPr b="0" lang="ru-RU" sz="1600" spc="-1" strike="noStrike">
                <a:solidFill>
                  <a:srgbClr val="ffffff"/>
                </a:solidFill>
                <a:latin typeface="IBM Plex Sans"/>
              </a:rPr>
              <a:t>(863) 225-26-00</a:t>
            </a:r>
            <a:endParaRPr b="0" lang="en-US" sz="16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44800" y="5035320"/>
            <a:ext cx="305748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BM Plex Sans"/>
              </a:rPr>
              <a:t>victoria117</a:t>
            </a:r>
            <a:r>
              <a:rPr b="0" lang="en-GB" sz="1600" spc="-1" strike="noStrike">
                <a:solidFill>
                  <a:srgbClr val="ffffff"/>
                </a:solidFill>
                <a:latin typeface="IBM Plex Sans"/>
              </a:rPr>
              <a:t>@list.ru</a:t>
            </a:r>
            <a:endParaRPr b="0" lang="en-US" sz="16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744800" y="5279760"/>
            <a:ext cx="305748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BM Plex Sans"/>
              </a:rPr>
              <a:t>www.g117.ucoz.ru</a:t>
            </a:r>
            <a:endParaRPr b="0" lang="en-US" sz="1600" spc="-1" strike="noStrike">
              <a:solidFill>
                <a:srgbClr val="36235d"/>
              </a:solidFill>
              <a:latin typeface="IBM Plex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8800" y="2583720"/>
            <a:ext cx="6324480" cy="14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a40bf"/>
                </a:solidFill>
                <a:latin typeface="Myriad Pro"/>
              </a:rPr>
              <a:t>Описание практики</a:t>
            </a:r>
            <a:endParaRPr b="1" lang="en-US" sz="54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58800" y="1525680"/>
            <a:ext cx="40687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6235d"/>
              </a:solidFill>
              <a:latin typeface="IBM Plex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Описание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58800" y="2023560"/>
            <a:ext cx="10909440" cy="36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35d"/>
                </a:solidFill>
                <a:latin typeface="IBM Plex Sans"/>
              </a:rPr>
              <a:t>Цель программы: 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 создание условий для гармоничного развития личности обучающегося; 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 повышение качества усвоения обучающимися естественнонаучных и математических знаний;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 формировать универсальные учебные действия учащихся в процессе освоения современных знаний;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 изучение основ микромира в различных их проявлениях;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- обеспечение условий для осознанной профессиональной ориентации обучающихся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698E-475D-4CFA-9202-C186443DC079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Описание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58800" y="2023920"/>
            <a:ext cx="10909440" cy="30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35d"/>
                </a:solidFill>
                <a:latin typeface="IBM Plex Sans"/>
              </a:rPr>
              <a:t>Направленность программы: </a:t>
            </a: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естественнонаучная, физико-математическая, технологическая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35d"/>
                </a:solidFill>
                <a:latin typeface="IBM Plex Sans"/>
              </a:rPr>
              <a:t>Миссия  программы:</a:t>
            </a: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 всестороннее развитие познавательных способностей и организация досуга учащихся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35d"/>
                </a:solidFill>
                <a:latin typeface="IBM Plex Sans"/>
              </a:rPr>
              <a:t>Ценностные ориентиры содержания программы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В программе особое внимание уделено содержанию, способствующему формированию современной естественнонаучной картины мира, показано практическое применение знаний в области нанотехнологий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19F3-98AA-40D4-A3F9-85B80E947FB2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Описание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58800" y="2023920"/>
            <a:ext cx="10909440" cy="29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35d"/>
                </a:solidFill>
                <a:latin typeface="IBM Plex Sans"/>
              </a:rPr>
              <a:t>Актуальность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В настоящее время широко развиваются нанотехнологии. Их активно используют в медицине, при производстве удобрений, в химии, энергетике, в строительной индустрии, в микроэлектронике и во многих других областях науки и техники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Настоящий курс предназначен для очного обучения.  Дополнительная общеобразовательная подпрограмма «Наномир для младших школьников» является основой при изучении тематических курсов по нанотехнологиям в средней и старшей школе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DFC7-8572-427D-8833-613C212070BB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8800" y="620280"/>
            <a:ext cx="109094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Описание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58800" y="2023920"/>
            <a:ext cx="10909440" cy="32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35d"/>
                </a:solidFill>
                <a:latin typeface="IBM Plex Sans"/>
              </a:rPr>
              <a:t>Новизна программы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В дополнительной общеобразовательной подпрограмме «Наномир для младших школьников» важное место отводится обучению фотографированию объектов природы, как одному из важных навыков современного представления результатов исследования. 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6080" indent="-22608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Ещё одним элементом новизны данной программыявляется обучение детей навыкам работы с современными геоинформационными системами (ГИС-технология), что позволяет обучающимся научиться современной форме оформления и представления результатов исследования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744E-E628-47FE-9333-B7224C90E201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8800" y="344520"/>
            <a:ext cx="109094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40bf"/>
                </a:solidFill>
                <a:latin typeface="Myriad Pro"/>
              </a:rPr>
              <a:t>Описание практики</a:t>
            </a:r>
            <a:endParaRPr b="1" lang="en-US" sz="4000" spc="-1" strike="noStrike">
              <a:solidFill>
                <a:srgbClr val="6a40bf"/>
              </a:solidFill>
              <a:latin typeface="Navigo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58800" y="1055160"/>
            <a:ext cx="10909440" cy="24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35d"/>
                </a:solidFill>
                <a:latin typeface="IBM Plex Sans"/>
              </a:rPr>
              <a:t>Отличительные особенности программы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362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235d"/>
                </a:solidFill>
                <a:latin typeface="IBM Plex Sans"/>
              </a:rPr>
              <a:t>Главным отличием данной подпрограммы является акцент на развивающие формы обучения детей (экскурсии, применение авторских электронных учебных пособий, методических и дидактических пособий, использование современных информационных технологий, проектный метод обучения), а также включение в программы тем по обучению фотографированию объектов живой природы и освоению современных ГИС-технологий.</a:t>
            </a:r>
            <a:endParaRPr b="0" lang="en-US" sz="2000" spc="-1" strike="noStrike">
              <a:solidFill>
                <a:srgbClr val="36235d"/>
              </a:solidFill>
              <a:latin typeface="IBM Plex Sans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10199520" y="5842080"/>
            <a:ext cx="13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C255-5FA5-4551-8115-EB4E60CF4359}" type="slidenum">
              <a:rPr b="0" lang="ru-RU" sz="1200" spc="-1" strike="noStrike">
                <a:solidFill>
                  <a:srgbClr val="6a40b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9T10:32:58Z</dcterms:created>
  <dc:creator>Aydin Biche-ool</dc:creator>
  <dc:description/>
  <dc:language>en-US</dc:language>
  <cp:lastModifiedBy>Apple Service</cp:lastModifiedBy>
  <dcterms:modified xsi:type="dcterms:W3CDTF">2021-11-14T08:23:14Z</dcterms:modified>
  <cp:revision>73</cp:revision>
  <dc:subject/>
  <dc:title>STEM-карьера и инновационный бизнес: Что об этом нужно знать современному учителю</dc:title>
</cp:coreProperties>
</file>